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0DC3-BEF3-4003-A3CA-66C2C6D8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D61-0CC7-4641-B007-A60AA7C25F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9B4-3F39-4113-BDA0-D69FFA5C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94F-2822-45E3-BAE9-ED57DB57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6BF-1D1A-4FB8-AB0D-5FBBFCFF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80A-8279-4D54-AE3E-2309E8CD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9EA-872A-416A-9A18-EB6B2983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3E4-49F6-4213-A85B-8BAE9FCE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566-303D-46B4-A1C2-8393D3E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AAA-C3EA-4B42-B63C-A4C292B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C1F-D95F-41BC-B695-AA73C6C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148-FD35-4845-9D76-2539F16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9B6-20ED-4006-B806-5B98AC3D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1AB-7CED-46E8-B714-3171776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7/17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bi Foli - Bio 316 Biology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8EF3-CA53-4559-8CEA-24AA434343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Renal tumors-1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7030a0"/>
                </a:solidFill>
                <a:latin typeface="Calibri"/>
              </a:rPr>
              <a:t>Dr. Abdelaty Shawk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istant professor of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095880" y="557280"/>
            <a:ext cx="2629080" cy="66672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959-A639-43FA-916C-22293890DD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5257800" cy="61722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C61-D010-4308-8277-7F2C79111F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On microscopic examin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umor consists of large, eosinophilic cells having small nuclei that have large nucleoli. The cells are arranged in nests separated by edematous and hyalinized fibrous str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676-90EA-45B3-9C14-0884A0A69B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4000" y="1276200"/>
            <a:ext cx="8515080" cy="53532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7CA-A66F-4559-9DB6-D9009B09EA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Renal cell carcino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20E4-B8BE-4BFE-998A-C5A7DC8D5B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Epidemiology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l cell carcinomas represent about 1% to 3% of all visceral cancers and account for 85% of renal malignancy in adul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mors occur most often in older individuals, usually in the sixth and seventh decades of life, showing a male preponderance in the ratio of 3: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nal cancer is sporadic, but unusual forms are a famil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FF9-6CF6-4A85-9A08-F4B90260F4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Risk factors for RC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garette smoking is the most significant risk fa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esity (particularly in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opposed estroge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asbestos, petroleum products, and heavy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d polycystic kidney disease secondary to di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6DE-2568-4A0D-8FCD-F32DD6247B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linical presentation of RCC:</a:t>
            </a:r>
            <a:r>
              <a:rPr b="1" i="1" lang="en-US" sz="6000" spc="-1" strike="noStrike" u="sng">
                <a:solidFill>
                  <a:srgbClr val="c00000"/>
                </a:solidFill>
                <a:uFillTx/>
                <a:latin typeface="Calibri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Hematu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Flank p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Flank lu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triad is seen in only 10% of cases. The most reliable of the three is hematuria, but it is usually intermittent and may be microscopic; thus, the tumor may remain silent until it attains a large siz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1D9A-736F-4B1F-893A-357022AEF3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al cell carcinoma tends to produce a diversity of systemic symptoms not related to the kidney termed paraneoplastic syndromes, ascribed to abnormal hormone production includ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cyth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percalc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031F-7C73-4A7A-BD48-829BF7CF3B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4560" y="5331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patic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minization or masculiniz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shing syndr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ukemoid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yloid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8E1-C8AD-45A4-B48D-0E4301E60A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92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common characteristics of this tumor is it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endency to metastasize widely before giving rise to any local symptoms or 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5% of patients with renal cell carcinoma, there is radiologic evidence of metastases at the time of pres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locations of metastasis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ore than 50%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33%), followed in order by the regional lymph nodes, liver and adrenals, and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D1E6-0789-4629-BB40-30EFA9E4B3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lassification of Renal tumo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596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. Benign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cal ade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ocyt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I. Malignant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al cell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ms tu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AAC-2B17-42BD-9971-5232065E95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assification of Renal Cell Carcino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. Clear cell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2. Papillary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3. Chromophobe RC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4. Collecting duct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3268-DC01-4F48-ACBF-23CD48E885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</a:rPr>
              <a:t>1. Clear cell RC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most common type, accounting for 70% to 80% of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* Gross Path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renal cortic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aterality and multifocality more common in familia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circumscribed, lobulated with golden-yellow cut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stic change, hemorrhage, necrosis, and calcification often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0E98-D41D-4812-8FCB-BA8C5F1450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ight Arrow 1"/>
          <p:cNvSpPr/>
          <p:nvPr/>
        </p:nvSpPr>
        <p:spPr>
          <a:xfrm rot="19069800">
            <a:off x="4073040" y="36572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CE81-9588-4AA1-8FEC-ECBBBBC49E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533160"/>
            <a:ext cx="85345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Histopatholog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sts of clear cells interspersed by delicate vascular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66680" y="2346480"/>
            <a:ext cx="6419880" cy="422100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A2A-25F5-4A66-BB32-00275E55AB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shawky\Desktop\537609_532248906799119_1451101252_n.jpg"/>
          <p:cNvPicPr/>
          <p:nvPr/>
        </p:nvPicPr>
        <p:blipFill>
          <a:blip r:embed="rId1"/>
          <a:stretch/>
        </p:blipFill>
        <p:spPr>
          <a:xfrm>
            <a:off x="2819520" y="609480"/>
            <a:ext cx="613080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Rounded Rectangle 3"/>
          <p:cNvSpPr/>
          <p:nvPr/>
        </p:nvSpPr>
        <p:spPr>
          <a:xfrm>
            <a:off x="152280" y="4267080"/>
            <a:ext cx="3886200" cy="190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obbins and Cotran’s: Pathologic Basis of Disease. Seven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387-2586-49B9-BE4C-18F2A070FC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3805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xception of oncocytoma, benign tumors rarely cause clinical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 tumors, on the other hand, are of great importance clinically and deserve considerable emphas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ar the most common of these malignant tumors is renal cell carcinoma that affects adults, followed by Wilms tumor, which is found in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430D-6DAB-4ED2-94BD-E17004BB03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nal cortical adeno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n incidental fi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seen in patients receiving long-term hemodialysis, also more common in kidneys scarred from chronic pyelonephr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C55-C9AD-43A1-A00F-CDE0E9FE2B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Gross examina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umor is smaller than 5 m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, well-circumscribed mass with yellow to gray cut surface surrounded by compressed adjacent kidney par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E252-9A44-4110-BC1C-ABD196911C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2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icroscopic examination: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composed of papillomatous structures, tubules, and gl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s are cuboidal in shape and have small central nuclei, scanty cytoplasm, and no aty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B7A-945A-4B5D-A02D-34C7A02685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nal ade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18148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C99-684C-43C6-AF9F-144D7283B5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ases are asymptomatic, although flank pain may be a presenting complaint; hematuria may be s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or MRI may identif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 central sc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36E2-CADD-49A0-BA31-95A19B3667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Gross Patholog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circumscribed, homogeneous cortical tu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hogany-brown cut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shows a central, irregular fibrous sc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ateral or multicentric in 2% to 3% of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185F-C244-44B0-B6BB-136314F5B0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20:02:23Z</dcterms:created>
  <dc:creator>Dr.Sarkar</dc:creator>
  <dc:description/>
  <dc:language>en-US</dc:language>
  <cp:lastModifiedBy>Abdulaty Shawky</cp:lastModifiedBy>
  <dcterms:modified xsi:type="dcterms:W3CDTF">2014-11-16T07:22:28Z</dcterms:modified>
  <cp:revision>187</cp:revision>
  <dc:subject/>
  <dc:title>PROGRESS IN RENAL CELL CARCINOMA</dc:title>
</cp:coreProperties>
</file>